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2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2844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985A-893C-4FEB-B3FF-B3432898F1F9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AC7C-A529-419E-8FF8-0FF69B9417BB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54D-E7EE-4348-9F33-CFA81403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96F-3BC2-48AE-84F9-92DD8CA3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9A8AE-3C11-41C9-A126-DB1104A4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80FB6-B327-43D7-A66D-F37A6392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BEBD5-522A-4160-8474-5A6256F2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8C2A3-093F-45E9-82A8-52CA1839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F4662-5AA6-4777-B2D7-F3A08C30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374AD-57DD-4FFB-B257-1AE8B16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EA977-A2F6-490A-87C3-DBE3839F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72777-673E-4454-832F-BBDC819A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27738-C3F0-471C-A2BE-6B73A437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BED46-F266-41E4-AFBE-BA7C3B60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D0B-05E2-45BE-B83C-A836F656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26614-2800-4A52-B5D8-A621CF50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D7474-D9E5-477A-9129-CBB2D529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C8159-409D-4BAD-9E59-46EA3383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56952-EAE3-4154-AC0A-5C11A74D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036E6-15C6-43A8-AF5F-407C8FD6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FA12B-C3FB-4689-9C0E-4705E9A3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F495E-5392-4D45-833C-C17CD9AF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88663-FFEC-477E-8B0D-2DBCF5EC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26995-361E-4EE3-897A-431679B5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78055-5A17-439E-A70A-D69B9F5B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549-AA9D-46D6-A228-9F92E110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15EB1-E3FA-4AFE-B4AB-D701B6F2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15FFD-B2EA-4B29-BDE1-D0675C7C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10393-DAD0-4920-B327-62661E9D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857A8-15B9-4CDB-86EA-E8018414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2E90E-1A46-4E3C-B2B2-BC092840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3EEA7-4C99-4BC2-B9D9-D5BFDE1F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F10A0-4D7A-4E38-B3E5-FBF4891B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27C6A-4ED3-4191-A008-FE7483A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440CF-79B4-4E2E-85FB-AF257EC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AE1AA-CE29-4BE4-BE36-1687674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9253-C1D1-4FB4-9E23-18552B13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BA187-B7E1-4948-A0CC-62FAB958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31220-02BF-411B-A53C-D2A49D26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69242-ED6E-4467-91B0-C4DBC3C3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835E8-D278-4FFA-BC5A-284B7657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D99A4-4ED5-4E9C-B500-BA680729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43144-5543-43EA-9F11-2BFF14AA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804CE-84B3-4072-9EC5-71105F1A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FC701-8FA9-428C-960A-A2A70093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CE1B3-3730-4D0F-A1FB-ED127ABC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B7F76-188F-4041-922F-9D740DB6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2906-15ED-44F1-9666-13994400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F21FC-5DA5-452F-BDBC-B701612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8E487-A308-4F5D-9D42-0AE2BD38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2A383-2586-4790-BF45-DBAF455E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57908-2C79-4D75-98DE-BC11B996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4E784-4B55-41A7-A41D-D0371800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217E-DEEF-4BF2-8CC2-1745DFF2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F1F8-FA8F-41FF-8236-E3F4224D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B326-BE64-413C-9669-B8ABFC30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E10F-0D41-4D0A-A81C-36106869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FA2-4369-4BDA-BF9C-E3A1288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A06-8151-4BF5-A3F1-4FCCE9C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BA23-2B9A-4055-ABE7-F0F7202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9107-34DA-4C76-8213-55D8AC3F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E0F7-918D-4B91-B47D-221E2B2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9372-9F4A-4AF9-A316-E289FE8F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20D-B921-4673-AA8A-D261105C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15A6-2E43-450D-87E4-7268E119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3C99-9670-4FE1-9500-AE30E932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DFC3-6EDA-41E8-B67B-E4CDB63A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C6BB-A140-439A-B4EE-70FE2AAE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D473-3C1B-4B74-8837-E375D3C4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405-0281-48F0-A496-A47DF1F9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F6F8-9440-45C7-92A9-FAB5C040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0122-605A-474B-9BBB-8AF3D980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789A-8844-41CD-A77E-F93D4F8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F79F-5607-4C0D-987D-80495AA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D29C-64D3-4841-B8CD-698D0BCB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09EE-19F9-4641-8FB1-BC93F0CE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3396-D090-4787-A0EC-D56A624A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C120-F3DC-45F0-A772-8C0A2DEE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5F4C-D6B2-46EF-A9C1-26BA61E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76FD-C673-4819-9163-EBD47D91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745-9791-44A5-9B0A-84F97955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6128-0342-45DF-B1B1-6B681248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A5B3-B8B8-4D63-BCD3-F4E2FC6C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8EEB6-0E3A-40BF-8E3A-7FEF1298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C81E-EA7C-453C-ACA5-C81781AE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8CD6D-D9CF-402D-89A5-08F1E84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3818-5DBC-4E7D-8C5C-906310D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7FB4-4224-4141-9314-C47ECE24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C840-2F00-4F65-8FA8-36987170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9944-5F3E-44F1-9DE5-3CE9E629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9A82-514C-437B-ACC8-799F499B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D9A-7D4A-4B35-8125-BEDC914B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93A5-CC18-43A1-94E9-DAA21D3B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0B561-2CB3-4689-BCBD-1201DBFA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DC62-E5EE-4B41-9F4C-FBC22796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97EE-07F6-432E-9CAE-AA9BD8F0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E2980-BB02-432D-8202-229BC1BC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47A2-3DA2-4FE9-B4C5-E28B7CC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A9AFC-D382-4BBC-AD53-DA43E27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FF0A-4A4E-42ED-B6C4-CCCE7564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7FB5F-7848-4259-A02A-0A09AF76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6064-C483-4FBF-9606-2BB35404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FD5-81B4-4862-B97A-8796B89C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10104-7EC3-4C3B-B769-4D3F59CC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B814D-1DFB-47B3-9388-561788BE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D6A00-B948-4073-9996-20A5156D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58938-FE69-4C56-B777-2458FAAF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610F-9CDD-441C-AD27-F5F92D11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A0DBA-8B60-48CB-8A7E-6571BF01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EF6A2-2023-401F-BEAD-CEC69E23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B3AB1-F9F4-4F08-BB61-62FE20D0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DA96A-2657-440A-8CB4-14DF36C6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1597-353C-43AF-8B7A-7EE6A28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ACB-1887-4863-AFA3-4129FDB4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D93DA-B8BC-4DD1-A737-D31E1EEB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F2046-F022-4EDC-B0FB-AABBACF1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4433-3663-445A-A48D-B5C4B9B9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C20B-C1D9-4568-BB66-8FF309C9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CBD9E-44B8-4A6A-BCBD-4F15CE31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126D9-F5C1-4482-9FC3-D2E63BBC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7616-D0A1-4EB5-A65B-708170EB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455E-DA6B-4939-AD88-AAD0351F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E15AE-79FE-4B8D-9F44-4A35594B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44C87-5F56-4E0F-87DF-DF099D61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CDF-0229-4A9F-9F2E-46D4027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1C6AC-CFCD-4392-AEE1-4B814F25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02AF7-E209-4D28-92CA-FB9FF040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5621-7412-481C-B979-A52C3385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5682-89D3-4569-800F-4D946F03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0DAB8-B0FC-4BA3-AB92-185EA065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F14BE-98C4-4D5B-91B9-D3E848C2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5253-A009-4018-9CD1-7A062570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8A4C0-00E3-4810-BC9B-8615ECB0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625B-6A48-4BB8-B91A-281CEC55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C043E-2F97-4DF8-8762-438D581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39C-4A63-4FEC-9B32-25BFDEAF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A6D9B-1F48-486C-B187-52417F92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3E74-E4D1-447E-A9E4-198E3CDE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AD907-D6ED-4F60-8B84-C2A0F8F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A70C-A37A-479E-8DF8-9C8A03CC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299DE-55E5-4970-B93D-F025725E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84BC-73AA-4817-ABF4-6A00B059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CE8AE-A31C-4509-8303-4CEFAFCD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7BCA6-D2BA-4EBD-878B-4FD081F3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268D7-4F20-42E3-8B32-B9D66EAA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6B1DA-72BF-4799-AD48-EAB601B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CA0-6BB4-4A24-9E39-6D1448DFE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A070-3106-46DA-9D95-C2DD7972D73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4AFC-E9CC-4559-A672-073A0AB9DAB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BAE5-9A40-4FF1-B278-2256B1590BA7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61CB-8EE8-4609-B746-DB54EA5497B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4459-D3EF-4A48-85D7-2A0668E0286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1FC6-23DE-4C36-B42C-3844CB66524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EFB4-A10F-42A7-B436-5D39D1ACD86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A683-4443-41AE-A1B8-A0BE86E2B5B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D33E-3539-4BCA-95CF-34584A7852D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913D-CA48-476D-8466-2797ABF19F2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55B0-82FF-4AF5-B466-81765BC57B6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B2E8-17F9-4490-8644-7D8C71E4BB84}" type="slidenum">
              <a:rPr b="0" lang="en-GB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21"/>
          <p:cNvSpPr/>
          <p:nvPr/>
        </p:nvSpPr>
        <p:spPr>
          <a:xfrm>
            <a:off x="304920" y="3200400"/>
            <a:ext cx="82296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3737"/>
                </a:solidFill>
                <a:latin typeface="Palatino Linotype"/>
              </a:rPr>
              <a:t>pH CURVES &amp;</a:t>
            </a:r>
            <a:br>
              <a:rPr sz="6000"/>
            </a:br>
            <a:r>
              <a:rPr b="1" lang="en-GB" sz="60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6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442800" y="3352680"/>
            <a:ext cx="2681280" cy="5806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How pH indicators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581280" y="3352680"/>
            <a:ext cx="1676520" cy="642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methyl o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5486400" y="3352680"/>
            <a:ext cx="1905120" cy="642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phenolphtha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442800" y="3976560"/>
            <a:ext cx="374832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Choosing an appropriate indic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42800" y="4510080"/>
            <a:ext cx="138600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pH cur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2119320" y="4616280"/>
            <a:ext cx="1386000" cy="1191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strong acid  strong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3795840" y="4616280"/>
            <a:ext cx="1309680" cy="1191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strong acid  weak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396040" y="4616280"/>
            <a:ext cx="1385640" cy="9169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weak acid  strong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6996240" y="4616280"/>
            <a:ext cx="1309680" cy="9169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weak acid  weak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428760" y="4952880"/>
            <a:ext cx="140004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423720" y="5576760"/>
            <a:ext cx="155736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diprotic ac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1981080" y="5581800"/>
            <a:ext cx="2057400" cy="405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H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 / Na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4691160" y="5586480"/>
            <a:ext cx="155736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diprotic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6234120" y="5591160"/>
            <a:ext cx="2057400" cy="405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Na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C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 / 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2846520" y="2438280"/>
            <a:ext cx="2689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T08D0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7F86-B783-439F-8ED8-36A435EF3FB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0" name="Object 11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7FEE-A5FC-4A65-859B-3F5C10FF975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1476360" y="1628640"/>
            <a:ext cx="6120000" cy="223200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1476360" y="3860640"/>
            <a:ext cx="6120000" cy="574920"/>
          </a:xfrm>
          <a:prstGeom prst="rect">
            <a:avLst/>
          </a:prstGeom>
          <a:gradFill rotWithShape="0">
            <a:gsLst>
              <a:gs pos="0">
                <a:srgbClr val="ff9900">
                  <a:alpha val="49019"/>
                </a:srgbClr>
              </a:gs>
              <a:gs pos="100000">
                <a:srgbClr val="cc33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1476360" y="4437000"/>
            <a:ext cx="6120000" cy="1008000"/>
          </a:xfrm>
          <a:prstGeom prst="rect">
            <a:avLst/>
          </a:prstGeom>
          <a:solidFill>
            <a:srgbClr val="cc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Object 11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F257-382F-4882-956E-2B6DEBB9E6F1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Object 12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7" name="Group 13"/>
          <p:cNvGrpSpPr/>
          <p:nvPr/>
        </p:nvGrpSpPr>
        <p:grpSpPr>
          <a:xfrm>
            <a:off x="4284720" y="3645000"/>
            <a:ext cx="3816360" cy="1015920"/>
            <a:chOff x="4284720" y="3645000"/>
            <a:chExt cx="3816360" cy="1015920"/>
          </a:xfrm>
        </p:grpSpPr>
        <p:sp>
          <p:nvSpPr>
            <p:cNvPr id="678" name="Line 14"/>
            <p:cNvSpPr/>
            <p:nvPr/>
          </p:nvSpPr>
          <p:spPr>
            <a:xfrm>
              <a:off x="4284720" y="39322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5"/>
            <p:cNvSpPr/>
            <p:nvPr/>
          </p:nvSpPr>
          <p:spPr>
            <a:xfrm>
              <a:off x="5435640" y="364500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&lt;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A8D4-3057-49C4-97EA-90C9F5386C3F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1476360" y="1484280"/>
            <a:ext cx="6120000" cy="136836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1476360" y="2852640"/>
            <a:ext cx="6120000" cy="57492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Object 12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AB20-543B-4628-AB00-EDF260CB88A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17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691" name="Rectangle 14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16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4" name="Object 18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494E-65FD-4661-8AE3-6BE2EAB889BE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Object 14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2" name="Group 15"/>
          <p:cNvGrpSpPr/>
          <p:nvPr/>
        </p:nvGrpSpPr>
        <p:grpSpPr>
          <a:xfrm>
            <a:off x="4284720" y="2708280"/>
            <a:ext cx="3816360" cy="1015920"/>
            <a:chOff x="4284720" y="2708280"/>
            <a:chExt cx="3816360" cy="1015920"/>
          </a:xfrm>
        </p:grpSpPr>
        <p:sp>
          <p:nvSpPr>
            <p:cNvPr id="703" name="Line 16"/>
            <p:cNvSpPr/>
            <p:nvPr/>
          </p:nvSpPr>
          <p:spPr>
            <a:xfrm>
              <a:off x="4284720" y="299556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7"/>
            <p:cNvSpPr/>
            <p:nvPr/>
          </p:nvSpPr>
          <p:spPr>
            <a:xfrm>
              <a:off x="5435640" y="270828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&gt;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5D04-F259-4AA4-A21E-DC406DED230F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Object 13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283F-D03C-48B8-9A1F-8D2150F0A85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Group 13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717" name="Rectangle 14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6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0" name="Object 18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320-8707-43CE-93D0-B187411FDB18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Object 12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Text Box 15"/>
          <p:cNvSpPr/>
          <p:nvPr/>
        </p:nvSpPr>
        <p:spPr>
          <a:xfrm>
            <a:off x="4500720" y="3573360"/>
            <a:ext cx="417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at equi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ends on relative strength of acid an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C65D-6C6E-4DB8-B254-02F8A277476C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Object 11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8793-BF2C-4BEC-9D9C-104E83DC0D5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9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Indicators are weak acids which have a different colour to their conjugate bas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Palatino Linotype"/>
              </a:rPr>
              <a:t>HIn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GB" sz="4000" spc="-1" strike="noStrike">
                <a:solidFill>
                  <a:srgbClr val="21272e"/>
                </a:solidFill>
                <a:latin typeface="Chemistry Serif"/>
              </a:rPr>
              <a:t>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 H</a:t>
            </a:r>
            <a:r>
              <a:rPr b="0" lang="en-GB" sz="40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+  </a:t>
            </a:r>
            <a:r>
              <a:rPr b="0" lang="en-GB" sz="4000" spc="-1" strike="noStrike">
                <a:solidFill>
                  <a:srgbClr val="6600ff"/>
                </a:solidFill>
                <a:latin typeface="Palatino Linotype"/>
              </a:rPr>
              <a:t>In</a:t>
            </a:r>
            <a:r>
              <a:rPr b="0" lang="en-GB" sz="4000" spc="-1" strike="noStrike" baseline="30000">
                <a:solidFill>
                  <a:srgbClr val="6600ff"/>
                </a:solidFill>
                <a:latin typeface="Palatino Linotype"/>
              </a:rPr>
              <a:t>-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baseline="30000">
                <a:solidFill>
                  <a:srgbClr val="ff3300"/>
                </a:solidFill>
                <a:latin typeface="Palatino Linotype"/>
              </a:rPr>
              <a:t>color 1</a:t>
            </a:r>
            <a:r>
              <a:rPr b="0" lang="en-GB" sz="4000" spc="-1" strike="noStrike" baseline="30000">
                <a:solidFill>
                  <a:srgbClr val="21272e"/>
                </a:solidFill>
                <a:latin typeface="Palatino Linotype"/>
              </a:rPr>
              <a:t>                      </a:t>
            </a:r>
            <a:r>
              <a:rPr b="0" lang="en-GB" sz="4000" spc="-1" strike="noStrike" baseline="30000">
                <a:solidFill>
                  <a:srgbClr val="6600ff"/>
                </a:solidFill>
                <a:latin typeface="Palatino Linotype"/>
              </a:rPr>
              <a:t>color 2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1440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pH:  equilibrium pushed left =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col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gh pH:  equilibrium pushed right = </a:t>
            </a: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colo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F85E-AD6D-4222-96EC-6756E9AD938F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1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12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741" name="Rectangle 13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4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5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4" name="Object 16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E42F-3E9F-4CA7-B6D1-1E6AB0F0658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Object 11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6E62-6EB2-4B07-9B9E-CE7C5DD53D77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9"/>
          <p:cNvGrpSpPr/>
          <p:nvPr/>
        </p:nvGrpSpPr>
        <p:grpSpPr>
          <a:xfrm>
            <a:off x="1476360" y="1628640"/>
            <a:ext cx="6120000" cy="1943280"/>
            <a:chOff x="1476360" y="1628640"/>
            <a:chExt cx="6120000" cy="1943280"/>
          </a:xfrm>
        </p:grpSpPr>
        <p:sp>
          <p:nvSpPr>
            <p:cNvPr id="755" name="Rectangle 3"/>
            <p:cNvSpPr/>
            <p:nvPr/>
          </p:nvSpPr>
          <p:spPr>
            <a:xfrm>
              <a:off x="1476360" y="1628640"/>
              <a:ext cx="6120000" cy="13687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4"/>
            <p:cNvSpPr/>
            <p:nvPr/>
          </p:nvSpPr>
          <p:spPr>
            <a:xfrm>
              <a:off x="1476360" y="2997360"/>
              <a:ext cx="6120000" cy="5745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Text Box 8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11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649F-8E29-4A72-8443-6B3CCA1E50EF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4"/>
          <p:cNvSpPr/>
          <p:nvPr/>
        </p:nvSpPr>
        <p:spPr>
          <a:xfrm>
            <a:off x="1476360" y="1413000"/>
            <a:ext cx="6120000" cy="235908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15"/>
          <p:cNvSpPr/>
          <p:nvPr/>
        </p:nvSpPr>
        <p:spPr>
          <a:xfrm>
            <a:off x="1476360" y="3772080"/>
            <a:ext cx="6120000" cy="606240"/>
          </a:xfrm>
          <a:prstGeom prst="rect">
            <a:avLst/>
          </a:prstGeom>
          <a:gradFill rotWithShape="0">
            <a:gsLst>
              <a:gs pos="0">
                <a:srgbClr val="ff9900">
                  <a:alpha val="49019"/>
                </a:srgbClr>
              </a:gs>
              <a:gs pos="100000">
                <a:srgbClr val="cc33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16"/>
          <p:cNvSpPr/>
          <p:nvPr/>
        </p:nvSpPr>
        <p:spPr>
          <a:xfrm>
            <a:off x="1476360" y="4375080"/>
            <a:ext cx="6120000" cy="1065240"/>
          </a:xfrm>
          <a:prstGeom prst="rect">
            <a:avLst/>
          </a:prstGeom>
          <a:solidFill>
            <a:srgbClr val="cc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18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F2ED-C964-4AA1-93C4-5452A088B06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1447920" y="181296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Object 11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Text Box 14"/>
          <p:cNvSpPr/>
          <p:nvPr/>
        </p:nvSpPr>
        <p:spPr>
          <a:xfrm>
            <a:off x="3276720" y="1812960"/>
            <a:ext cx="1655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2244-FCE7-4D5B-8E3B-7F2422CBB6DA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1322280" y="1558800"/>
            <a:ext cx="1979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Object 10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Text Box 11"/>
          <p:cNvSpPr/>
          <p:nvPr/>
        </p:nvSpPr>
        <p:spPr>
          <a:xfrm>
            <a:off x="3124080" y="1558800"/>
            <a:ext cx="2057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12"/>
          <p:cNvGrpSpPr/>
          <p:nvPr/>
        </p:nvGrpSpPr>
        <p:grpSpPr>
          <a:xfrm>
            <a:off x="1476360" y="2565360"/>
            <a:ext cx="6120000" cy="1225080"/>
            <a:chOff x="1476360" y="2565360"/>
            <a:chExt cx="6120000" cy="1225080"/>
          </a:xfrm>
        </p:grpSpPr>
        <p:sp>
          <p:nvSpPr>
            <p:cNvPr id="789" name="Rectangle 13"/>
            <p:cNvSpPr/>
            <p:nvPr/>
          </p:nvSpPr>
          <p:spPr>
            <a:xfrm>
              <a:off x="1476360" y="2565360"/>
              <a:ext cx="6120000" cy="8629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14"/>
            <p:cNvSpPr/>
            <p:nvPr/>
          </p:nvSpPr>
          <p:spPr>
            <a:xfrm>
              <a:off x="1476360" y="3428280"/>
              <a:ext cx="6120000" cy="3621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1E45-E9C0-4349-B7B1-AADEEDFB6D3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1263600" y="1600200"/>
            <a:ext cx="2089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1"/>
          <p:cNvSpPr/>
          <p:nvPr/>
        </p:nvSpPr>
        <p:spPr>
          <a:xfrm>
            <a:off x="3159000" y="1600200"/>
            <a:ext cx="20354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12"/>
          <p:cNvGrpSpPr/>
          <p:nvPr/>
        </p:nvGrpSpPr>
        <p:grpSpPr>
          <a:xfrm>
            <a:off x="1476360" y="2421000"/>
            <a:ext cx="6120000" cy="3816360"/>
            <a:chOff x="1476360" y="2421000"/>
            <a:chExt cx="6120000" cy="3816360"/>
          </a:xfrm>
        </p:grpSpPr>
        <p:sp>
          <p:nvSpPr>
            <p:cNvPr id="799" name="Rectangle 13"/>
            <p:cNvSpPr/>
            <p:nvPr/>
          </p:nvSpPr>
          <p:spPr>
            <a:xfrm>
              <a:off x="1476360" y="242100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14"/>
            <p:cNvSpPr/>
            <p:nvPr/>
          </p:nvSpPr>
          <p:spPr>
            <a:xfrm>
              <a:off x="1476360" y="465300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5"/>
            <p:cNvSpPr/>
            <p:nvPr/>
          </p:nvSpPr>
          <p:spPr>
            <a:xfrm>
              <a:off x="1476360" y="522936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2" name="Object 17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BFCE-0063-4ED8-9C69-B57468730087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1554120" y="174780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13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4"/>
          <p:cNvSpPr/>
          <p:nvPr/>
        </p:nvSpPr>
        <p:spPr>
          <a:xfrm>
            <a:off x="3643200" y="174780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Object 15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447A-5B21-47B3-90AF-011B934F1D97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1619280" y="1662120"/>
            <a:ext cx="185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0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Object 11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Text Box 12"/>
          <p:cNvSpPr/>
          <p:nvPr/>
        </p:nvSpPr>
        <p:spPr>
          <a:xfrm>
            <a:off x="3708360" y="166212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13"/>
          <p:cNvGrpSpPr/>
          <p:nvPr/>
        </p:nvGrpSpPr>
        <p:grpSpPr>
          <a:xfrm>
            <a:off x="1476360" y="2565360"/>
            <a:ext cx="6120000" cy="1225080"/>
            <a:chOff x="1476360" y="2565360"/>
            <a:chExt cx="6120000" cy="1225080"/>
          </a:xfrm>
        </p:grpSpPr>
        <p:sp>
          <p:nvSpPr>
            <p:cNvPr id="825" name="Rectangle 14"/>
            <p:cNvSpPr/>
            <p:nvPr/>
          </p:nvSpPr>
          <p:spPr>
            <a:xfrm>
              <a:off x="1476360" y="2565360"/>
              <a:ext cx="6120000" cy="8629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5"/>
            <p:cNvSpPr/>
            <p:nvPr/>
          </p:nvSpPr>
          <p:spPr>
            <a:xfrm>
              <a:off x="1476360" y="3428280"/>
              <a:ext cx="6120000" cy="3621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D28-A9A6-4818-B681-A342CCE260A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1619280" y="1662120"/>
            <a:ext cx="1778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708360" y="1662120"/>
            <a:ext cx="1778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13"/>
          <p:cNvGrpSpPr/>
          <p:nvPr/>
        </p:nvGrpSpPr>
        <p:grpSpPr>
          <a:xfrm>
            <a:off x="1476360" y="2421000"/>
            <a:ext cx="6120000" cy="3816360"/>
            <a:chOff x="1476360" y="2421000"/>
            <a:chExt cx="6120000" cy="3816360"/>
          </a:xfrm>
        </p:grpSpPr>
        <p:sp>
          <p:nvSpPr>
            <p:cNvPr id="836" name="Rectangle 14"/>
            <p:cNvSpPr/>
            <p:nvPr/>
          </p:nvSpPr>
          <p:spPr>
            <a:xfrm>
              <a:off x="1476360" y="242100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15"/>
            <p:cNvSpPr/>
            <p:nvPr/>
          </p:nvSpPr>
          <p:spPr>
            <a:xfrm>
              <a:off x="1476360" y="465300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6"/>
            <p:cNvSpPr/>
            <p:nvPr/>
          </p:nvSpPr>
          <p:spPr>
            <a:xfrm>
              <a:off x="1476360" y="522936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9" name="Object 19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392C-FF2E-4CD6-9065-A2A2F44FD82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0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Palatino Linotype"/>
              </a:rPr>
              <a:t>Methyl orange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9" name="Rectangle 1031"/>
          <p:cNvSpPr/>
          <p:nvPr/>
        </p:nvSpPr>
        <p:spPr>
          <a:xfrm>
            <a:off x="-37080" y="29304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1030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6048360" cy="144324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34"/>
          <p:cNvSpPr/>
          <p:nvPr/>
        </p:nvSpPr>
        <p:spPr>
          <a:xfrm>
            <a:off x="-42840" y="2976480"/>
            <a:ext cx="45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1029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7272360" cy="142236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1090"/>
          <p:cNvSpPr/>
          <p:nvPr/>
        </p:nvSpPr>
        <p:spPr>
          <a:xfrm>
            <a:off x="2484360" y="1844640"/>
            <a:ext cx="1728720" cy="36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091"/>
          <p:cNvSpPr/>
          <p:nvPr/>
        </p:nvSpPr>
        <p:spPr>
          <a:xfrm>
            <a:off x="4284720" y="184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lt; 3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093"/>
          <p:cNvSpPr/>
          <p:nvPr/>
        </p:nvSpPr>
        <p:spPr>
          <a:xfrm>
            <a:off x="6804000" y="242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hemistry Serif"/>
              </a:rPr>
              <a:t>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94"/>
          <p:cNvSpPr/>
          <p:nvPr/>
        </p:nvSpPr>
        <p:spPr>
          <a:xfrm>
            <a:off x="3059280" y="5445000"/>
            <a:ext cx="1728720" cy="36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95"/>
          <p:cNvSpPr/>
          <p:nvPr/>
        </p:nvSpPr>
        <p:spPr>
          <a:xfrm>
            <a:off x="4932360" y="54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gt; 4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1"/>
          <p:cNvSpPr/>
          <p:nvPr/>
        </p:nvSpPr>
        <p:spPr>
          <a:xfrm>
            <a:off x="7377120" y="4191120"/>
            <a:ext cx="1044720" cy="14335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152280"/>
            <a:ext cx="81788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Palatino Linotype"/>
              </a:rPr>
              <a:t>pH meter</a:t>
            </a:r>
            <a:endParaRPr b="0" lang="en-US" sz="6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ests the voltage of the electroly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onverts the voltage to pH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Very cheap, accura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Must be calibrated with a buffer soluti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dedee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7454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alt Solutions and Relative pH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ons can exhibit acidic or basic properties. For example, N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acidic, and F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basic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alts, being strong electrolytes, dissociate completely in aqueous solution to produce the ions which they are composed of. Therefore, salt solutions can be acidic, basic or neutral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Acidic or Basic Salt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is formed between the reaction of an acid and a base. Usually, a neutral salt is formed when a strong acid and a strong base is neutralized in the reaction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hen weak acids and bases react, the relative strength of the conjugated acid-base pair in the salt determines the pH of its solutions. The salt, or its solution, so formed can be acidic, neutral or basic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salt formed between a strong acid and a weak base is an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acid 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, for example N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l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salt formed between a weak acid and a strong base is a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basic 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, for example NaC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O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se salts are acidic or basic due to their acidic or basic ion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Hydrolysis of 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ydrolysis refers to a reaction with water (e.g. splitting water into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and 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hen salts are added to water, pH can chang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E.g. when 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is added to water, ions form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3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These ions may react with H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O, affecting the p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NaOH (aq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If the anion (-ve) reacts to remove lots of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but the cation (+ve) removes very little 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, then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will decrease and the solution will be basic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8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The degree of hydrolysi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NaO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 problem with writing equilibria this way is we do not know the strength of the reaction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owever, if we reverse the reaction we can look up Ka and Kb value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OH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1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5257800" y="373392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4.5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152280" y="4800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Small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a: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few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roducts;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adding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shift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Large Kb: mostly products; 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as little a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Thus, adding 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will cause more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to be removed, resulting in a basic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8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pectator 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 that all cations, except those of alkali and alkaline earth metals ( which do not hydrolyze in water and, therefore, do not affect pH ), act as weak acids in solution. (See Section 10 for a detailed explanation.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 relative concentrations of these ions then determine the acidic or basic properties of the solution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72e"/>
                </a:solidFill>
                <a:latin typeface="Palatino Linotype"/>
              </a:rPr>
              <a:t>Note :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The ions of strong acids and strong bases do </a:t>
            </a:r>
            <a:r>
              <a:rPr b="0" i="1" lang="en-US" sz="2800" spc="-1" strike="noStrike">
                <a:solidFill>
                  <a:srgbClr val="21272e"/>
                </a:solidFill>
                <a:latin typeface="Palatino Linotype"/>
              </a:rPr>
              <a:t>not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ydrolyze! They are so weak that they are known as </a:t>
            </a: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spectator ions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. Only ions of weak acids and bases hydrolyze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Accuracy of predict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oretically, using Ka and Kb values you could predict the exact pH resulting from a certain salt being added to distilled water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owever, you only need to be able to predict if a solution will be acidic, basic, or neutral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: you can’t judge the pH change solely on the difference between Ka and Kb.  Other factors are involved (e.g. the formula of the compound and its molar mass both affect [ ]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: hydrolysis refers to reactions with water. Several variations for writing equilibriums exist.  However, focusing on how th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/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balance of water is affected is easies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8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Steps in determining pH 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rite the ions that form: e.g.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+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Determine the reaction ions have with water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          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         </a:t>
            </a:r>
            <a:r>
              <a:rPr b="0" lang="en-CA" sz="1800" spc="-1" strike="noStrike">
                <a:solidFill>
                  <a:srgbClr val="21272e"/>
                </a:solidFill>
                <a:latin typeface="Palatino Linotype"/>
              </a:rPr>
              <a:t>                  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Look up the Ka of the conjugate acid and the Kb of the conjugate base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152280" y="56386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Determine if mor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or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is re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More H</a:t>
            </a:r>
            <a:r>
              <a:rPr b="1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is removed, therefore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2328840" y="4191120"/>
            <a:ext cx="21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[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2912400" y="473724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7"/>
          <p:cNvSpPr/>
          <p:nvPr/>
        </p:nvSpPr>
        <p:spPr>
          <a:xfrm>
            <a:off x="2406600" y="4791240"/>
            <a:ext cx="2057400" cy="0"/>
          </a:xfrm>
          <a:prstGeom prst="line">
            <a:avLst/>
          </a:prstGeom>
          <a:ln w="38160">
            <a:solidFill>
              <a:srgbClr val="212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"/>
          <p:cNvSpPr/>
          <p:nvPr/>
        </p:nvSpPr>
        <p:spPr>
          <a:xfrm>
            <a:off x="1858320" y="52117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= 1.8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9"/>
          <p:cNvSpPr/>
          <p:nvPr/>
        </p:nvSpPr>
        <p:spPr>
          <a:xfrm>
            <a:off x="1252080" y="44197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b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0"/>
          <p:cNvSpPr/>
          <p:nvPr/>
        </p:nvSpPr>
        <p:spPr>
          <a:xfrm>
            <a:off x="6053760" y="41148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[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1"/>
          <p:cNvSpPr/>
          <p:nvPr/>
        </p:nvSpPr>
        <p:spPr>
          <a:xfrm>
            <a:off x="6204960" y="46609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6019920" y="4714920"/>
            <a:ext cx="1860480" cy="9360"/>
          </a:xfrm>
          <a:prstGeom prst="line">
            <a:avLst/>
          </a:prstGeom>
          <a:ln w="38160">
            <a:solidFill>
              <a:srgbClr val="212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3"/>
          <p:cNvSpPr/>
          <p:nvPr/>
        </p:nvSpPr>
        <p:spPr>
          <a:xfrm>
            <a:off x="5518440" y="513540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= 6.2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4"/>
          <p:cNvSpPr/>
          <p:nvPr/>
        </p:nvSpPr>
        <p:spPr>
          <a:xfrm>
            <a:off x="4899600" y="434340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2"/>
          <p:cNvSpPr/>
          <p:nvPr/>
        </p:nvSpPr>
        <p:spPr>
          <a:xfrm>
            <a:off x="6095880" y="4638600"/>
            <a:ext cx="1600200" cy="5731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2038320" y="4151160"/>
            <a:ext cx="2873520" cy="5731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8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irst element</a:t>
            </a: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pperplate Gothic Bold"/>
              </a:rPr>
              <a:t>hydrogen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</a:rPr>
              <a:t> = Acid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0" y="1263600"/>
            <a:ext cx="4495680" cy="647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Bi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 and another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Use hydro- pre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Use –ic suf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Cl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F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4648320" y="1263600"/>
            <a:ext cx="4495680" cy="58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xyacid / P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 and 2 or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O pre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f poly –at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-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f poly –it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-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DE4-202B-4097-BB97-A3EB9E09B28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028" descr="C:\My Documents\Steve\College\Chemistry\Curric 2000\Module 4\7 Acids and Bases\pH titrations\BC_Methyl Orange.jpg"/>
          <p:cNvPicPr/>
          <p:nvPr/>
        </p:nvPicPr>
        <p:blipFill>
          <a:blip r:embed="rId1"/>
          <a:stretch/>
        </p:blipFill>
        <p:spPr>
          <a:xfrm>
            <a:off x="0" y="703440"/>
            <a:ext cx="9144000" cy="4976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29"/>
          <p:cNvSpPr/>
          <p:nvPr/>
        </p:nvSpPr>
        <p:spPr>
          <a:xfrm>
            <a:off x="246240" y="5153040"/>
            <a:ext cx="195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30"/>
          <p:cNvSpPr/>
          <p:nvPr/>
        </p:nvSpPr>
        <p:spPr>
          <a:xfrm>
            <a:off x="6799320" y="5162400"/>
            <a:ext cx="195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31"/>
          <p:cNvSpPr/>
          <p:nvPr/>
        </p:nvSpPr>
        <p:spPr>
          <a:xfrm>
            <a:off x="3352680" y="5181480"/>
            <a:ext cx="2210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end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69720" y="304920"/>
            <a:ext cx="8229600" cy="9144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pperplate Gothic Bold"/>
              </a:rPr>
              <a:t>Acid Nomenclature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grpSp>
        <p:nvGrpSpPr>
          <p:cNvPr id="879" name="Group 4"/>
          <p:cNvGrpSpPr/>
          <p:nvPr/>
        </p:nvGrpSpPr>
        <p:grpSpPr>
          <a:xfrm>
            <a:off x="838080" y="1828800"/>
            <a:ext cx="7467840" cy="4501800"/>
            <a:chOff x="838080" y="1828800"/>
            <a:chExt cx="7467840" cy="4501800"/>
          </a:xfrm>
        </p:grpSpPr>
        <p:sp>
          <p:nvSpPr>
            <p:cNvPr id="880" name="Rectangle 21"/>
            <p:cNvSpPr/>
            <p:nvPr/>
          </p:nvSpPr>
          <p:spPr>
            <a:xfrm>
              <a:off x="838080" y="3268440"/>
              <a:ext cx="7467840" cy="73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20"/>
            <p:cNvSpPr/>
            <p:nvPr/>
          </p:nvSpPr>
          <p:spPr>
            <a:xfrm>
              <a:off x="1038600" y="2213280"/>
              <a:ext cx="3025080" cy="424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per- -ic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19"/>
            <p:cNvSpPr/>
            <p:nvPr/>
          </p:nvSpPr>
          <p:spPr>
            <a:xfrm>
              <a:off x="1055520" y="341172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Representative “-ic”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18"/>
            <p:cNvSpPr/>
            <p:nvPr/>
          </p:nvSpPr>
          <p:spPr>
            <a:xfrm>
              <a:off x="1100160" y="46738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ous”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7"/>
            <p:cNvSpPr/>
            <p:nvPr/>
          </p:nvSpPr>
          <p:spPr>
            <a:xfrm>
              <a:off x="1066680" y="59068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hypo- -ou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6"/>
            <p:cNvSpPr/>
            <p:nvPr/>
          </p:nvSpPr>
          <p:spPr>
            <a:xfrm>
              <a:off x="5063040" y="219852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per- -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5"/>
            <p:cNvSpPr/>
            <p:nvPr/>
          </p:nvSpPr>
          <p:spPr>
            <a:xfrm>
              <a:off x="5040720" y="342144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Text Box 14"/>
            <p:cNvSpPr/>
            <p:nvPr/>
          </p:nvSpPr>
          <p:spPr>
            <a:xfrm>
              <a:off x="5040720" y="46936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13"/>
            <p:cNvSpPr/>
            <p:nvPr/>
          </p:nvSpPr>
          <p:spPr>
            <a:xfrm>
              <a:off x="5029560" y="589716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hypo- -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4075200" y="2410560"/>
              <a:ext cx="99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1"/>
            <p:cNvSpPr/>
            <p:nvPr/>
          </p:nvSpPr>
          <p:spPr>
            <a:xfrm>
              <a:off x="4075200" y="3613680"/>
              <a:ext cx="93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0"/>
            <p:cNvSpPr/>
            <p:nvPr/>
          </p:nvSpPr>
          <p:spPr>
            <a:xfrm>
              <a:off x="4153320" y="4885920"/>
              <a:ext cx="89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9"/>
            <p:cNvSpPr/>
            <p:nvPr/>
          </p:nvSpPr>
          <p:spPr>
            <a:xfrm>
              <a:off x="4108680" y="6099120"/>
              <a:ext cx="91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8"/>
            <p:cNvSpPr/>
            <p:nvPr/>
          </p:nvSpPr>
          <p:spPr>
            <a:xfrm flipV="1">
              <a:off x="2557080" y="2627280"/>
              <a:ext cx="11160" cy="74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7"/>
            <p:cNvSpPr/>
            <p:nvPr/>
          </p:nvSpPr>
          <p:spPr>
            <a:xfrm flipH="1">
              <a:off x="2545560" y="3830760"/>
              <a:ext cx="1116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6"/>
            <p:cNvSpPr/>
            <p:nvPr/>
          </p:nvSpPr>
          <p:spPr>
            <a:xfrm flipH="1">
              <a:off x="2567880" y="5113080"/>
              <a:ext cx="11160" cy="78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5"/>
            <p:cNvSpPr/>
            <p:nvPr/>
          </p:nvSpPr>
          <p:spPr>
            <a:xfrm>
              <a:off x="4075200" y="1828800"/>
              <a:ext cx="99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31"/>
          <p:cNvSpPr/>
          <p:nvPr/>
        </p:nvSpPr>
        <p:spPr>
          <a:xfrm>
            <a:off x="0" y="1446480"/>
            <a:ext cx="897084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Oxyaci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Oxya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+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-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-[O]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2"/>
          <p:cNvSpPr/>
          <p:nvPr/>
        </p:nvSpPr>
        <p:spPr>
          <a:xfrm>
            <a:off x="4038480" y="14479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Remova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6583-BD25-47BA-9577-575D6D66AA8D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Palatino Linotype"/>
              </a:rPr>
              <a:t>Phenolphthalein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pic>
        <p:nvPicPr>
          <p:cNvPr id="626" name="Picture 1036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30780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027"/>
          <p:cNvSpPr/>
          <p:nvPr/>
        </p:nvSpPr>
        <p:spPr>
          <a:xfrm>
            <a:off x="-37080" y="29304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029"/>
          <p:cNvSpPr/>
          <p:nvPr/>
        </p:nvSpPr>
        <p:spPr>
          <a:xfrm>
            <a:off x="-42840" y="2976480"/>
            <a:ext cx="45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033"/>
          <p:cNvSpPr/>
          <p:nvPr/>
        </p:nvSpPr>
        <p:spPr>
          <a:xfrm>
            <a:off x="3492360" y="364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hemistry Serif"/>
              </a:rPr>
              <a:t>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034"/>
          <p:cNvSpPr/>
          <p:nvPr/>
        </p:nvSpPr>
        <p:spPr>
          <a:xfrm>
            <a:off x="5364000" y="5445000"/>
            <a:ext cx="17290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035"/>
          <p:cNvSpPr/>
          <p:nvPr/>
        </p:nvSpPr>
        <p:spPr>
          <a:xfrm>
            <a:off x="5651640" y="5877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gt; 10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038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4103640" cy="297504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40"/>
          <p:cNvSpPr/>
          <p:nvPr/>
        </p:nvSpPr>
        <p:spPr>
          <a:xfrm>
            <a:off x="1332000" y="5877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lt; 8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041"/>
          <p:cNvSpPr/>
          <p:nvPr/>
        </p:nvSpPr>
        <p:spPr>
          <a:xfrm>
            <a:off x="1042920" y="5445000"/>
            <a:ext cx="1728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12"/>
          <p:cNvSpPr/>
          <p:nvPr/>
        </p:nvSpPr>
        <p:spPr>
          <a:xfrm>
            <a:off x="7772400" y="3159000"/>
            <a:ext cx="1044720" cy="14335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D354-C5A7-46D3-83BA-B727373A0A4A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4" descr="C:\My Documents\Steve\College\Chemistry\Curric 2000\Module 4\7 Acids and Bases\pH titrations\BC_Phth deep pink.jpg"/>
          <p:cNvPicPr/>
          <p:nvPr/>
        </p:nvPicPr>
        <p:blipFill>
          <a:blip r:embed="rId1"/>
          <a:stretch/>
        </p:blipFill>
        <p:spPr>
          <a:xfrm>
            <a:off x="228600" y="304920"/>
            <a:ext cx="8362800" cy="594036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1676520" y="572940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5410080" y="572940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2743200" y="304920"/>
            <a:ext cx="320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enolphthal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146-4B1F-4431-8B77-560F64DE921F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9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For an indicator to work in a titration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The pH range of the indicator’s color change must be within the range of the pH change at the end-point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C63D-905D-4A49-97E3-1136A8CA827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68360" y="1989000"/>
          <a:ext cx="8229600" cy="3816360"/>
        </p:xfrm>
        <a:graphic>
          <a:graphicData uri="http://schemas.openxmlformats.org/drawingml/2006/table">
            <a:tbl>
              <a:tblPr/>
              <a:tblGrid>
                <a:gridCol w="2374920"/>
                <a:gridCol w="1657440"/>
                <a:gridCol w="2376360"/>
                <a:gridCol w="1820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range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– 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lphthal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 –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00000"/>
                </a:solidFill>
                <a:latin typeface="Palatino Linotype"/>
              </a:rPr>
              <a:t>INDICATORS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4D0B-2BA2-4ED6-B54B-18462D186493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0" name="Object 8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2" name="Group 11"/>
          <p:cNvGrpSpPr/>
          <p:nvPr/>
        </p:nvGrpSpPr>
        <p:grpSpPr>
          <a:xfrm>
            <a:off x="4284720" y="3141720"/>
            <a:ext cx="3816360" cy="1015920"/>
            <a:chOff x="4284720" y="3141720"/>
            <a:chExt cx="3816360" cy="1015920"/>
          </a:xfrm>
        </p:grpSpPr>
        <p:sp>
          <p:nvSpPr>
            <p:cNvPr id="653" name="Line 9"/>
            <p:cNvSpPr/>
            <p:nvPr/>
          </p:nvSpPr>
          <p:spPr>
            <a:xfrm>
              <a:off x="4284720" y="34290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5435640" y="314172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6:04:30Z</dcterms:created>
  <dc:creator>scheffler</dc:creator>
  <dc:description/>
  <dc:language>en-US</dc:language>
  <cp:lastModifiedBy>ECATECH</cp:lastModifiedBy>
  <cp:lastPrinted>2010-09-06T19:19:07Z</cp:lastPrinted>
  <dcterms:modified xsi:type="dcterms:W3CDTF">2010-09-09T12:59:13Z</dcterms:modified>
  <cp:revision>83</cp:revision>
  <dc:subject/>
  <dc:title>Introduction to Chemistry</dc:title>
</cp:coreProperties>
</file>